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upcake%5B1%5D.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5F7C3-F86C-4F18-B0EA-BCB706773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625FD-4DC0-413F-8AA2-07973D2A7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104BE-8F16-4871-97BD-4EAD3846D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F7CC3-AA0A-47E4-B35E-6FB4DE514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9A50-E530-4FDA-AAC7-AB17F1C5E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CB731-6A66-4DCE-888B-B57A3E5A0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00606-A34E-4942-A8FF-8774CC383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4D776-956E-4656-A513-723A4B1FF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69B9C-5D74-440F-8390-681F54459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850E3-E609-4343-A257-9BB25A0D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562B-9C4F-4350-A935-70E9CF854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CEEC3-F650-45E3-B7E7-A55B001C0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EEEC-69D4-4B6D-9A7E-2924DD739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upcake%5B1%5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41280" y="1219320"/>
            <a:ext cx="6661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Stylus BT"/>
                <a:ea typeface="Times New Roman"/>
              </a:rPr>
              <a:t> </a:t>
            </a:r>
            <a:r>
              <a:rPr b="1" lang="fr-FR" sz="4000" spc="-1" strike="noStrike">
                <a:solidFill>
                  <a:srgbClr val="000000"/>
                </a:solidFill>
                <a:latin typeface="Stylus BT"/>
                <a:ea typeface="Times New Roman"/>
              </a:rPr>
              <a:t>Comment as tu fai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Stylus BT"/>
                <a:ea typeface="Times New Roman"/>
              </a:rPr>
              <a:t>pour survivre...?</a:t>
            </a:r>
            <a:endParaRPr b="0" lang="en-US" sz="4000" spc="-1" strike="noStrike">
              <a:solidFill>
                <a:srgbClr val="000000"/>
              </a:solidFill>
              <a:latin typeface="Times New Roman"/>
            </a:endParaRPr>
          </a:p>
        </p:txBody>
      </p:sp>
      <p:sp>
        <p:nvSpPr>
          <p:cNvPr id="42" name=""/>
          <p:cNvSpPr/>
          <p:nvPr/>
        </p:nvSpPr>
        <p:spPr>
          <a:xfrm>
            <a:off x="5178240" y="3645000"/>
            <a:ext cx="25275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0000"/>
                </a:solidFill>
                <a:latin typeface="Courier New"/>
              </a:rPr>
              <a:t>Mettez le son!</a:t>
            </a:r>
            <a:endParaRPr b="0" lang="en-US" sz="2200" spc="-1" strike="noStrike">
              <a:solidFill>
                <a:srgbClr val="000000"/>
              </a:solidFill>
              <a:latin typeface="Times New Roman"/>
            </a:endParaRPr>
          </a:p>
        </p:txBody>
      </p:sp>
    </p:spTree>
  </p:cSld>
  <p:transition spd="med">
    <p:random/>
    <p:sndAc>
      <p:stSnd>
        <p:snd r:embed="rId2" name="cupcake%5B1%5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040" y="990720"/>
            <a:ext cx="83059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sortait jouer à la seule condition de rentrer pour l’heure du repas... Ou à la tombée de la nuit.</a:t>
            </a:r>
            <a:endParaRPr b="0" lang="en-US" sz="40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19040" y="289080"/>
            <a:ext cx="83059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allait à l’école seulement le matin, on rentrait manger après avoir savouré des fruits tout au long du chemin...</a:t>
            </a:r>
            <a:endParaRPr b="0" lang="en-US" sz="40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19040" y="380880"/>
            <a:ext cx="83059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n’avait pas de portable... Comme ça... personne ne pouvait savoir où on traînait !!!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 Impensable !!!</a:t>
            </a:r>
            <a:endParaRPr b="0" lang="en-US" sz="40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22440" y="0"/>
            <a:ext cx="85215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se coupait, on se cassait les os, on perdait des dents, mais, il n’y a jamais eu de plainte pour ces accident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Personne n’était coupable... seulement nous-mêmes.</a:t>
            </a:r>
            <a:endParaRPr b="0" lang="en-US" sz="4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12840" y="0"/>
            <a:ext cx="845028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mangeait de tout, des biscuits, du pain, du chocolat, des glaces. Nous buvions des boissons sucrées mais n’avions pas de problèmes de poids, car l’on passait la journée à courir et à jouer.</a:t>
            </a:r>
            <a:endParaRPr b="0" lang="en-US" sz="40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19040" y="289080"/>
            <a:ext cx="83059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partageait un coca entre quatre (quand l’on pouvait se l’acheter et c’était la bouteille en verre d’un litre)... On buvait tous à la même bouteille et personne n’est mort pour ça.</a:t>
            </a:r>
            <a:endParaRPr b="0" lang="en-US" sz="40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52280" y="380880"/>
            <a:ext cx="8991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Stylus BT"/>
                <a:ea typeface="Courier New"/>
              </a:rPr>
              <a:t>On n’avait pas de Play Stations, MP3, Nintendo 64, XBoxs, Jeux Vidéo, 99 chaînes de TV par câble, vidéograveurs, ciné, son “surround”, portables, ordis, “chat-rooms”, Internet, etc ... Par contr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Stylus BT"/>
                <a:ea typeface="Courier New"/>
              </a:rPr>
              <a:t>On avait de vrais amis !!!</a:t>
            </a:r>
            <a:endParaRPr b="0" lang="en-US" sz="32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19040" y="0"/>
            <a:ext cx="83059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sortait, on prenait nos vélos ou on marchait jusqu’à chez nos copains, on sonnait ou...on entrait tout simplement sans sonner et on allait jouer...</a:t>
            </a:r>
            <a:endParaRPr b="0" lang="en-US" sz="40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24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Là dehor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Dans ce monde cruel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Sans un gardien payé par Papa!</a:t>
            </a:r>
            <a:endParaRPr b="0" lang="en-US" sz="40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22200" y="0"/>
            <a:ext cx="84978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cc"/>
                </a:solidFill>
                <a:latin typeface="Stylus BT"/>
                <a:ea typeface="Courier New"/>
              </a:rPr>
              <a:t>On jouait avec des bâtons, avec des balles de tennis, aux policiers et aux  voleurs, à cache-cache, au football, au ballon prisonnier, et dans l’équipe qui se formait pour jouer, quelques uns n’étaient pas choisis. Mais, ça n’a  jamais fait de drame. </a:t>
            </a:r>
            <a:endParaRPr b="0" lang="en-US" sz="36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19040" y="0"/>
            <a:ext cx="830592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Si tu as été enfant pendant le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années 70, 80 ou au débu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des années 90</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comme moi…)...</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Stylus BT"/>
                <a:ea typeface="Times New Roman"/>
              </a:rPr>
              <a:t>Comment as tu fait pour survivre ???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419040" y="304920"/>
            <a:ext cx="830592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Stylus BT"/>
                <a:ea typeface="Courier New"/>
              </a:rPr>
              <a:t>Certains n’étaient pas de très bons élèves, ils devaient simplement redoubler l’année quand ils ne réussissait pa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Stylus BT"/>
                <a:ea typeface="Courier New"/>
              </a:rPr>
              <a:t>Personne n’allait chez le psychologue, ni le psychopédagogue, il n’y avait pas de dyslexie. Simplement, on redoublait et on avait une deuxième chance.</a:t>
            </a:r>
            <a:endParaRPr b="0"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19040" y="304920"/>
            <a:ext cx="830592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avait de la liberté, des succès et des échec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des responsabilité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Et on a appris à gérer.</a:t>
            </a:r>
            <a:endParaRPr b="0" lang="en-US" sz="40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419040" y="304920"/>
            <a:ext cx="83059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Es-tu de cette génératio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Si tu l’es, donne-toi une minute de réflexion et envoie ce message à tes amis. Peut-être pendant quelques instants ils vont oublier la vie agitée qu’ils vivent et redeviendront les enfants d’autrefo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Certains dirons sûremen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 Qu’est-ce-que c’était que ça ?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Ma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	</a:t>
            </a:r>
            <a:r>
              <a:rPr b="1" lang="fr-FR" sz="2800" spc="-1" strike="noStrike">
                <a:solidFill>
                  <a:srgbClr val="000000"/>
                </a:solidFill>
                <a:latin typeface="Stylus BT"/>
                <a:ea typeface="Courier New"/>
              </a:rPr>
              <a:t>qu’est-ce qu’on était HEUREUX</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C’ETAIT SI PEU ..... !!!</a:t>
            </a:r>
            <a:endParaRPr b="0" lang="en-US" sz="28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80880" y="1066680"/>
            <a:ext cx="845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ylus BT"/>
                <a:ea typeface="Courier New"/>
              </a:rPr>
              <a:t>JE TE SOUHAITE UNE BELLE JOURNÉ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64">
                                            <p:txEl>
                                              <p:pRg st="0" end="0"/>
                                            </p:txEl>
                                          </p:spTgt>
                                        </p:tgtEl>
                                        <p:attrNameLst>
                                          <p:attrName>style.visibility</p:attrName>
                                        </p:attrNameLst>
                                      </p:cBhvr>
                                      <p:to>
                                        <p:strVal val="visible"/>
                                      </p:to>
                                    </p:set>
                                    <p:animEffect filter="fade" transition="in">
                                      <p:cBhvr additive="repl">
                                        <p:cTn id="7" dur="1000"/>
                                        <p:tgtEl>
                                          <p:spTgt spid="64">
                                            <p:txEl>
                                              <p:pRg st="0" end="0"/>
                                            </p:txEl>
                                          </p:spTgt>
                                        </p:tgtEl>
                                      </p:cBhvr>
                                    </p:animEffect>
                                    <p:anim calcmode="lin" valueType="num">
                                      <p:cBhvr additive="repl">
                                        <p:cTn id="8" dur="1000" fill="hold"/>
                                        <p:tgtEl>
                                          <p:spTgt spid="64">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50920" y="0"/>
            <a:ext cx="8640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Enfants, nous allions dans de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voitures sans ceintures de sécurité, ni airbags. Voyager à l’arrière d’une camionnett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était une promenade symp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On s’en souvient encore...</a:t>
            </a:r>
            <a:endParaRPr b="0" lang="en-US" sz="4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19040" y="990720"/>
            <a:ext cx="83059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Nos berceaux étaient peints avec des couleurs brillantes à base de plomb !</a:t>
            </a:r>
            <a:endParaRPr b="0" lang="en-US" sz="4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419040" y="380880"/>
            <a:ext cx="83059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Il n’y avait pas de bouchons de sécurité sur les bouteilles de médicaments, ni sur les tiroirs ou les portes...</a:t>
            </a:r>
            <a:endParaRPr b="0" lang="en-US" sz="4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19040" y="304920"/>
            <a:ext cx="830592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Quand nous partions à vélo, nous n’avions ni casque, ni protection pour les coudes ou les genoux. Et c’était génial, quand on transformait notre vélo en “moto” avec un simple gobelet en plastique sur la roue arrière.</a:t>
            </a:r>
            <a:endParaRPr b="0" lang="en-US" sz="40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19040" y="380880"/>
            <a:ext cx="83059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On buvait de l’eau du robinet du jardin ou là où on en trouvait, jusqu’à ce qu’on n’ait plus soif. On n’avait pas de bouteille d’eau minérale.</a:t>
            </a:r>
            <a:endParaRPr b="0" lang="en-US" sz="40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19040" y="0"/>
            <a:ext cx="8305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cc"/>
                </a:solidFill>
                <a:latin typeface="Stylus BT"/>
                <a:ea typeface="Times New Roman"/>
              </a:rPr>
              <a:t>On mettait des heures à construire des voitures avec des caisses et des tuyaux et, ceux qui avaient la chance d’avoir un ami avec un vélo, en profitaient pour se faire remorquer et... en haut de la pente, ils se rappelaient qu’ils n’avaient pas de freins !!!</a:t>
            </a:r>
            <a:endParaRPr b="0" lang="en-US" sz="36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19040" y="380880"/>
            <a:ext cx="83059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cc"/>
                </a:solidFill>
                <a:latin typeface="Stylus BT"/>
                <a:ea typeface="Times New Roman"/>
              </a:rPr>
              <a:t>Après quelques chocs, on a appris à résoudre le problème... On se laissait tomber contre un arbre ou par terre. Eh oui ! A l’époque, il n’y avait pas beaucoup de voitures !</a:t>
            </a:r>
            <a:endParaRPr b="0" lang="en-US" sz="36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1T18:31:55Z</dcterms:created>
  <dc:creator>Oskar Franko</dc:creator>
  <dc:description>o_franco@yahoo.com</dc:description>
  <dc:language>en-US</dc:language>
  <cp:lastModifiedBy>ROUMIEU_M</cp:lastModifiedBy>
  <dcterms:modified xsi:type="dcterms:W3CDTF">2006-09-07T14:27:36Z</dcterms:modified>
  <cp:revision>29</cp:revision>
  <dc:subject>Nuestra Niñez</dc:subject>
  <dc:title>Sobrevivir</dc:title>
</cp:coreProperties>
</file>