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cupcake%5B1%5D.wav" ContentType="audio/x-wav"/>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E8A00E-4CF1-4399-BDBA-33280C53B8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B32C96-389A-4E86-9DD5-CA662B6B23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74A430-C7C8-42FD-914F-03C4CDA543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5FAFA9-B2EA-4E04-9344-FD1E70FE61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E2CE3C-CC11-46CC-BEFE-66BD831C51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811F44-327F-40C7-9741-A15F8DCA29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59CFBE-C06C-4C29-BB25-50B3E1297B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0805F9-1407-4DD3-8CEA-BD6AE2982F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43D1EF-71C2-4F3D-8C90-7C7E825EDF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423535-11BB-4FE5-8D8C-CE24B34076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3039C2-51A1-47F5-B351-740A1E9487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AE412D-6B9F-42DE-A460-F064D75B89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5D9491-57BE-4F65-9499-616F1BAFF69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upcake%5B1%5D.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
          <p:cNvSpPr/>
          <p:nvPr/>
        </p:nvSpPr>
        <p:spPr>
          <a:xfrm>
            <a:off x="1241280" y="1219320"/>
            <a:ext cx="666144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Stylus BT"/>
                <a:ea typeface="Times New Roman"/>
              </a:rPr>
              <a:t> </a:t>
            </a:r>
            <a:r>
              <a:rPr b="1" lang="fr-FR" sz="4000" spc="-1" strike="noStrike">
                <a:solidFill>
                  <a:srgbClr val="000000"/>
                </a:solidFill>
                <a:latin typeface="Stylus BT"/>
                <a:ea typeface="Times New Roman"/>
              </a:rPr>
              <a:t>Comment as tu fait </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0000"/>
                </a:solidFill>
                <a:latin typeface="Stylus BT"/>
                <a:ea typeface="Times New Roman"/>
              </a:rPr>
              <a:t>pour survivre...?</a:t>
            </a:r>
            <a:endParaRPr b="0" lang="en-US" sz="4000" spc="-1" strike="noStrike">
              <a:solidFill>
                <a:srgbClr val="000000"/>
              </a:solidFill>
              <a:latin typeface="Times New Roman"/>
            </a:endParaRPr>
          </a:p>
        </p:txBody>
      </p:sp>
      <p:sp>
        <p:nvSpPr>
          <p:cNvPr id="42" name=""/>
          <p:cNvSpPr/>
          <p:nvPr/>
        </p:nvSpPr>
        <p:spPr>
          <a:xfrm>
            <a:off x="5178240" y="3645000"/>
            <a:ext cx="2527560" cy="429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ff0000"/>
                </a:solidFill>
                <a:latin typeface="Courier New"/>
              </a:rPr>
              <a:t>Mettez le son!</a:t>
            </a:r>
            <a:endParaRPr b="0" lang="en-US" sz="2200" spc="-1" strike="noStrike">
              <a:solidFill>
                <a:srgbClr val="000000"/>
              </a:solidFill>
              <a:latin typeface="Times New Roman"/>
            </a:endParaRPr>
          </a:p>
        </p:txBody>
      </p:sp>
    </p:spTree>
  </p:cSld>
  <p:transition spd="med">
    <p:random/>
    <p:sndAc>
      <p:stSnd>
        <p:snd r:embed="rId2" name="cupcake%5B1%5D.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
          <p:cNvSpPr/>
          <p:nvPr/>
        </p:nvSpPr>
        <p:spPr>
          <a:xfrm>
            <a:off x="419040" y="990720"/>
            <a:ext cx="8305920" cy="253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3333cc"/>
                </a:solidFill>
                <a:latin typeface="Stylus BT"/>
                <a:ea typeface="Courier New"/>
              </a:rPr>
              <a:t>On sortait jouer à la seule condition de rentrer pour l’heure du repas... Ou à la tombée de la nuit.</a:t>
            </a:r>
            <a:endParaRPr b="0" lang="en-US" sz="4000" spc="-1" strike="noStrike">
              <a:solidFill>
                <a:srgbClr val="000000"/>
              </a:solidFill>
              <a:latin typeface="Times New Roman"/>
            </a:endParaRPr>
          </a:p>
        </p:txBody>
      </p:sp>
    </p:spTree>
  </p:cSld>
  <p:transition spd="med">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
          <p:cNvSpPr/>
          <p:nvPr/>
        </p:nvSpPr>
        <p:spPr>
          <a:xfrm>
            <a:off x="419040" y="289080"/>
            <a:ext cx="8305920" cy="253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3333cc"/>
                </a:solidFill>
                <a:latin typeface="Stylus BT"/>
                <a:ea typeface="Courier New"/>
              </a:rPr>
              <a:t>On allait à l’école seulement le matin, on rentrait manger après avoir savouré des fruits tout au long du chemin...</a:t>
            </a:r>
            <a:endParaRPr b="0" lang="en-US" sz="4000" spc="-1" strike="noStrike">
              <a:solidFill>
                <a:srgbClr val="000000"/>
              </a:solidFill>
              <a:latin typeface="Times New Roman"/>
            </a:endParaRPr>
          </a:p>
        </p:txBody>
      </p:sp>
    </p:spTree>
  </p:cSld>
  <p:transition spd="med">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
          <p:cNvSpPr/>
          <p:nvPr/>
        </p:nvSpPr>
        <p:spPr>
          <a:xfrm>
            <a:off x="419040" y="380880"/>
            <a:ext cx="8305920" cy="253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3333cc"/>
                </a:solidFill>
                <a:latin typeface="Stylus BT"/>
                <a:ea typeface="Courier New"/>
              </a:rPr>
              <a:t>On n’avait pas de portable... Comme ça... personne ne pouvait savoir où on traînait !!! </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3333cc"/>
                </a:solidFill>
                <a:latin typeface="Stylus BT"/>
                <a:ea typeface="Courier New"/>
              </a:rPr>
              <a:t>¡¡¡ Impensable !!!</a:t>
            </a:r>
            <a:endParaRPr b="0" lang="en-US" sz="4000" spc="-1" strike="noStrike">
              <a:solidFill>
                <a:srgbClr val="000000"/>
              </a:solidFill>
              <a:latin typeface="Times New Roman"/>
            </a:endParaRPr>
          </a:p>
        </p:txBody>
      </p:sp>
    </p:spTree>
  </p:cSld>
  <p:transition spd="med">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
          <p:cNvSpPr/>
          <p:nvPr/>
        </p:nvSpPr>
        <p:spPr>
          <a:xfrm>
            <a:off x="622440" y="0"/>
            <a:ext cx="8521560" cy="3750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3333cc"/>
                </a:solidFill>
                <a:latin typeface="Stylus BT"/>
                <a:ea typeface="Courier New"/>
              </a:rPr>
              <a:t>On se coupait, on se cassait les os, on perdait des dents, mais, il n’y a jamais eu de plainte pour ces accidents...</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3333cc"/>
                </a:solidFill>
                <a:latin typeface="Stylus BT"/>
                <a:ea typeface="Courier New"/>
              </a:rPr>
              <a:t>Personne n’était coupable... seulement nous-mêmes.</a:t>
            </a:r>
            <a:endParaRPr b="0" lang="en-US" sz="4000" spc="-1" strike="noStrike">
              <a:solidFill>
                <a:srgbClr val="000000"/>
              </a:solidFill>
              <a:latin typeface="Times New Roman"/>
            </a:endParaRPr>
          </a:p>
        </p:txBody>
      </p:sp>
    </p:spTree>
  </p:cSld>
  <p:transition spd="med">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
          <p:cNvSpPr/>
          <p:nvPr/>
        </p:nvSpPr>
        <p:spPr>
          <a:xfrm>
            <a:off x="312840" y="0"/>
            <a:ext cx="8450280" cy="4360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3333cc"/>
                </a:solidFill>
                <a:latin typeface="Stylus BT"/>
                <a:ea typeface="Courier New"/>
              </a:rPr>
              <a:t>On mangeait de tout, des biscuits, du pain, du chocolat, des glaces. Nous buvions des boissons sucrées mais n’avions pas de problèmes de poids, car l’on passait la journée à courir et à jouer.</a:t>
            </a:r>
            <a:endParaRPr b="0" lang="en-US" sz="4000" spc="-1" strike="noStrike">
              <a:solidFill>
                <a:srgbClr val="000000"/>
              </a:solidFill>
              <a:latin typeface="Times New Roman"/>
            </a:endParaRPr>
          </a:p>
        </p:txBody>
      </p:sp>
    </p:spTree>
  </p:cSld>
  <p:transition spd="med">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
          <p:cNvSpPr/>
          <p:nvPr/>
        </p:nvSpPr>
        <p:spPr>
          <a:xfrm>
            <a:off x="419040" y="289080"/>
            <a:ext cx="8305920" cy="3750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3333cc"/>
                </a:solidFill>
                <a:latin typeface="Stylus BT"/>
                <a:ea typeface="Courier New"/>
              </a:rPr>
              <a:t>On partageait un coca entre quatre (quand l’on pouvait se l’acheter et c’était la bouteille en verre d’un litre)... On buvait tous à la même bouteille et personne n’est mort pour ça.</a:t>
            </a:r>
            <a:endParaRPr b="0" lang="en-US" sz="4000" spc="-1" strike="noStrike">
              <a:solidFill>
                <a:srgbClr val="000000"/>
              </a:solidFill>
              <a:latin typeface="Times New Roman"/>
            </a:endParaRPr>
          </a:p>
        </p:txBody>
      </p:sp>
    </p:spTree>
  </p:cSld>
  <p:transition spd="med">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
          <p:cNvSpPr/>
          <p:nvPr/>
        </p:nvSpPr>
        <p:spPr>
          <a:xfrm>
            <a:off x="152280" y="380880"/>
            <a:ext cx="8991720" cy="3018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3333cc"/>
                </a:solidFill>
                <a:latin typeface="Stylus BT"/>
                <a:ea typeface="Courier New"/>
              </a:rPr>
              <a:t>On n’avait pas de Play Stations, MP3, Nintendo 64, XBoxs, Jeux Vidéo, 99 chaînes de TV par câble, vidéograveurs, ciné, son “surround”, portables, ordis, “chat-rooms”, Internet, etc ... Par contre:</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Stylus BT"/>
                <a:ea typeface="Courier New"/>
              </a:rPr>
              <a:t>On avait de vrais amis !!!</a:t>
            </a:r>
            <a:endParaRPr b="0" lang="en-US" sz="3200" spc="-1" strike="noStrike">
              <a:solidFill>
                <a:srgbClr val="000000"/>
              </a:solidFill>
              <a:latin typeface="Times New Roman"/>
            </a:endParaRPr>
          </a:p>
        </p:txBody>
      </p:sp>
    </p:spTree>
  </p:cSld>
  <p:transition spd="med">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
          <p:cNvSpPr/>
          <p:nvPr/>
        </p:nvSpPr>
        <p:spPr>
          <a:xfrm>
            <a:off x="419040" y="0"/>
            <a:ext cx="8305920" cy="314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3333cc"/>
                </a:solidFill>
                <a:latin typeface="Stylus BT"/>
                <a:ea typeface="Courier New"/>
              </a:rPr>
              <a:t>On sortait, on prenait nos vélos ou on marchait jusqu’à chez nos copains, on sonnait ou...on entrait tout simplement sans sonner et on allait jouer...</a:t>
            </a:r>
            <a:endParaRPr b="0" lang="en-US" sz="4000" spc="-1" strike="noStrike">
              <a:solidFill>
                <a:srgbClr val="000000"/>
              </a:solidFill>
              <a:latin typeface="Times New Roman"/>
            </a:endParaRPr>
          </a:p>
        </p:txBody>
      </p:sp>
    </p:spTree>
  </p:cSld>
  <p:transition spd="med">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
          <p:cNvSpPr/>
          <p:nvPr/>
        </p:nvSpPr>
        <p:spPr>
          <a:xfrm>
            <a:off x="0" y="0"/>
            <a:ext cx="9144000" cy="240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3333cc"/>
                </a:solidFill>
                <a:latin typeface="Stylus BT"/>
                <a:ea typeface="Courier New"/>
              </a:rPr>
              <a:t>Là dehors !</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3333cc"/>
                </a:solidFill>
                <a:latin typeface="Stylus BT"/>
                <a:ea typeface="Courier New"/>
              </a:rPr>
              <a:t>Dans ce monde cruel !</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3333cc"/>
                </a:solidFill>
                <a:latin typeface="Stylus BT"/>
                <a:ea typeface="Courier New"/>
              </a:rPr>
              <a:t>Sans un gardien payé par Papa!</a:t>
            </a:r>
            <a:endParaRPr b="0" lang="en-US" sz="4000" spc="-1" strike="noStrike">
              <a:solidFill>
                <a:srgbClr val="000000"/>
              </a:solidFill>
              <a:latin typeface="Times New Roman"/>
            </a:endParaRPr>
          </a:p>
        </p:txBody>
      </p:sp>
    </p:spTree>
  </p:cSld>
  <p:transition spd="med">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
          <p:cNvSpPr/>
          <p:nvPr/>
        </p:nvSpPr>
        <p:spPr>
          <a:xfrm>
            <a:off x="322200" y="0"/>
            <a:ext cx="8497800" cy="3934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3333cc"/>
                </a:solidFill>
                <a:latin typeface="Stylus BT"/>
                <a:ea typeface="Courier New"/>
              </a:rPr>
              <a:t>On jouait avec des bâtons, avec des balles de tennis, aux policiers et aux  voleurs, à cache-cache, au football, au ballon prisonnier, et dans l’équipe qui se formait pour jouer, quelques uns n’étaient pas choisis. Mais, ça n’a  jamais fait de drame. </a:t>
            </a:r>
            <a:endParaRPr b="0" lang="en-US" sz="3600" spc="-1" strike="noStrike">
              <a:solidFill>
                <a:srgbClr val="000000"/>
              </a:solidFill>
              <a:latin typeface="Times New Roman"/>
            </a:endParaRPr>
          </a:p>
        </p:txBody>
      </p:sp>
    </p:spTree>
  </p:cSld>
  <p:transition spd="med">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
          <p:cNvSpPr/>
          <p:nvPr/>
        </p:nvSpPr>
        <p:spPr>
          <a:xfrm>
            <a:off x="419040" y="0"/>
            <a:ext cx="8305920" cy="4969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3333cc"/>
                </a:solidFill>
                <a:latin typeface="Stylus BT"/>
                <a:ea typeface="Times New Roman"/>
              </a:rPr>
              <a:t>Si tu as été enfant pendant les  </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3333cc"/>
                </a:solidFill>
                <a:latin typeface="Stylus BT"/>
                <a:ea typeface="Times New Roman"/>
              </a:rPr>
              <a:t>années 70, 80 ou au début </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3333cc"/>
                </a:solidFill>
                <a:latin typeface="Stylus BT"/>
                <a:ea typeface="Times New Roman"/>
              </a:rPr>
              <a:t>des années 90</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3333cc"/>
                </a:solidFill>
                <a:latin typeface="Stylus BT"/>
                <a:ea typeface="Times New Roman"/>
              </a:rPr>
              <a:t>(comme moi…)...</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0000"/>
                </a:solidFill>
                <a:latin typeface="Stylus BT"/>
                <a:ea typeface="Times New Roman"/>
              </a:rPr>
              <a:t>Comment as tu fait pour survivre ??? !!!!!!!!!!!</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p:transition spd="med">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
          <p:cNvSpPr/>
          <p:nvPr/>
        </p:nvSpPr>
        <p:spPr>
          <a:xfrm>
            <a:off x="419040" y="304920"/>
            <a:ext cx="8305920" cy="3993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3333cc"/>
                </a:solidFill>
                <a:latin typeface="Stylus BT"/>
                <a:ea typeface="Courier New"/>
              </a:rPr>
              <a:t>Certains n’étaient pas de très bons élèves, ils devaient simplement redoubler l’année quand ils ne réussissait pas. </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3333cc"/>
                </a:solidFill>
                <a:latin typeface="Stylus BT"/>
                <a:ea typeface="Courier New"/>
              </a:rPr>
              <a:t>Personne n’allait chez le psychologue, ni le psychopédagogue, il n’y avait pas de dyslexie. Simplement, on redoublait et on avait une deuxième chance.</a:t>
            </a:r>
            <a:endParaRPr b="0" lang="en-US" sz="3200" spc="-1" strike="noStrike">
              <a:solidFill>
                <a:srgbClr val="000000"/>
              </a:solidFill>
              <a:latin typeface="Times New Roman"/>
            </a:endParaRPr>
          </a:p>
        </p:txBody>
      </p:sp>
    </p:spTree>
  </p:cSld>
  <p:transition spd="med">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
          <p:cNvSpPr/>
          <p:nvPr/>
        </p:nvSpPr>
        <p:spPr>
          <a:xfrm>
            <a:off x="419040" y="304920"/>
            <a:ext cx="8305920" cy="3019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3333cc"/>
                </a:solidFill>
                <a:latin typeface="Stylus BT"/>
                <a:ea typeface="Courier New"/>
              </a:rPr>
              <a:t>On avait de la liberté, des succès et des échecs, </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3333cc"/>
                </a:solidFill>
                <a:latin typeface="Stylus BT"/>
                <a:ea typeface="Courier New"/>
              </a:rPr>
              <a:t>des responsabilités...</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3333cc"/>
                </a:solidFill>
                <a:latin typeface="Stylus BT"/>
                <a:ea typeface="Courier New"/>
              </a:rPr>
              <a:t>Et on a appris à gérer.</a:t>
            </a:r>
            <a:endParaRPr b="0" lang="en-US" sz="4000" spc="-1" strike="noStrike">
              <a:solidFill>
                <a:srgbClr val="000000"/>
              </a:solidFill>
              <a:latin typeface="Times New Roman"/>
            </a:endParaRPr>
          </a:p>
        </p:txBody>
      </p:sp>
    </p:spTree>
  </p:cSld>
  <p:transition spd="med">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
          <p:cNvSpPr/>
          <p:nvPr/>
        </p:nvSpPr>
        <p:spPr>
          <a:xfrm>
            <a:off x="419040" y="304920"/>
            <a:ext cx="8305920" cy="4786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Stylus BT"/>
                <a:ea typeface="Courier New"/>
              </a:rPr>
              <a:t>Es-tu de cette génération ?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Stylus BT"/>
                <a:ea typeface="Courier New"/>
              </a:rPr>
              <a:t>Si tu l’es, donne-toi une minute de réflexion et envoie ce message à tes amis. Peut-être pendant quelques instants ils vont oublier la vie agitée qu’ils vivent et redeviendront les enfants d’autrefois...</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Stylus BT"/>
                <a:ea typeface="Courier New"/>
              </a:rPr>
              <a:t>Certains dirons sûrement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Stylus BT"/>
                <a:ea typeface="Courier New"/>
              </a:rPr>
              <a:t>« Qu’est-ce-que c’était que ça ? !!!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Stylus BT"/>
                <a:ea typeface="Courier New"/>
              </a:rPr>
              <a:t>Mais...</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Stylus BT"/>
                <a:ea typeface="Courier New"/>
              </a:rPr>
              <a:t>	</a:t>
            </a:r>
            <a:r>
              <a:rPr b="1" lang="fr-FR" sz="2800" spc="-1" strike="noStrike">
                <a:solidFill>
                  <a:srgbClr val="000000"/>
                </a:solidFill>
                <a:latin typeface="Stylus BT"/>
                <a:ea typeface="Courier New"/>
              </a:rPr>
              <a:t>qu’est-ce qu’on était HEUREUX</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Stylus BT"/>
                <a:ea typeface="Courier New"/>
              </a:rPr>
              <a:t>C’ETAIT SI PEU ..... !!!</a:t>
            </a:r>
            <a:endParaRPr b="0" lang="en-US" sz="2800" spc="-1" strike="noStrike">
              <a:solidFill>
                <a:srgbClr val="000000"/>
              </a:solidFill>
              <a:latin typeface="Times New Roman"/>
            </a:endParaRPr>
          </a:p>
        </p:txBody>
      </p:sp>
    </p:spTree>
  </p:cSld>
  <p:transition spd="med">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
          <p:cNvSpPr/>
          <p:nvPr/>
        </p:nvSpPr>
        <p:spPr>
          <a:xfrm>
            <a:off x="380880" y="1066680"/>
            <a:ext cx="8450280" cy="192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Stylus BT"/>
                <a:ea typeface="Courier New"/>
              </a:rPr>
              <a:t>JE TE SOUHAITE UNE BELLE JOURNÉE !</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p:transition spd="med">
    <p:random/>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40">
                                  <p:stCondLst>
                                    <p:cond delay="0"/>
                                  </p:stCondLst>
                                  <p:iterate type="lt">
                                    <p:tmAbs val="100"/>
                                  </p:iterate>
                                  <p:childTnLst>
                                    <p:set>
                                      <p:cBhvr>
                                        <p:cTn id="6" dur="1" fill="hold">
                                          <p:stCondLst>
                                            <p:cond delay="0"/>
                                          </p:stCondLst>
                                        </p:cTn>
                                        <p:tgtEl>
                                          <p:spTgt spid="64">
                                            <p:txEl>
                                              <p:pRg st="0" end="0"/>
                                            </p:txEl>
                                          </p:spTgt>
                                        </p:tgtEl>
                                        <p:attrNameLst>
                                          <p:attrName>style.visibility</p:attrName>
                                        </p:attrNameLst>
                                      </p:cBhvr>
                                      <p:to>
                                        <p:strVal val="visible"/>
                                      </p:to>
                                    </p:set>
                                    <p:animEffect filter="fade" transition="in">
                                      <p:cBhvr additive="repl">
                                        <p:cTn id="7" dur="1000"/>
                                        <p:tgtEl>
                                          <p:spTgt spid="64">
                                            <p:txEl>
                                              <p:pRg st="0" end="0"/>
                                            </p:txEl>
                                          </p:spTgt>
                                        </p:tgtEl>
                                      </p:cBhvr>
                                    </p:animEffect>
                                    <p:anim calcmode="lin" valueType="num">
                                      <p:cBhvr additive="repl">
                                        <p:cTn id="8" dur="1000" fill="hold"/>
                                        <p:tgtEl>
                                          <p:spTgt spid="64">
                                            <p:txEl>
                                              <p:pRg st="0" end="0"/>
                                            </p:txEl>
                                          </p:spTgt>
                                        </p:tgtEl>
                                        <p:attrNameLst>
                                          <p:attrName>ppt_x</p:attrName>
                                        </p:attrNameLst>
                                      </p:cBhvr>
                                      <p:tavLst>
                                        <p:tav tm="0">
                                          <p:val>
                                            <p:strVal val="#ppt_x-.1"/>
                                          </p:val>
                                        </p:tav>
                                        <p:tav tm="100000">
                                          <p:val>
                                            <p:strVal val="#ppt_x"/>
                                          </p:val>
                                        </p:tav>
                                      </p:tavLst>
                                    </p:anim>
                                    <p:anim calcmode="lin" valueType="num">
                                      <p:cBhvr additive="repl">
                                        <p:cTn id="9" dur="1000" fill="hold"/>
                                        <p:tgtEl>
                                          <p:spTgt spid="64">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
          <p:cNvSpPr/>
          <p:nvPr/>
        </p:nvSpPr>
        <p:spPr>
          <a:xfrm>
            <a:off x="250920" y="0"/>
            <a:ext cx="8640720" cy="3750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3333cc"/>
                </a:solidFill>
                <a:latin typeface="Stylus BT"/>
                <a:ea typeface="Times New Roman"/>
              </a:rPr>
              <a:t>Enfants, nous allions dans des </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3333cc"/>
                </a:solidFill>
                <a:latin typeface="Stylus BT"/>
                <a:ea typeface="Times New Roman"/>
              </a:rPr>
              <a:t>voitures sans ceintures de sécurité, ni airbags. Voyager à l’arrière d’une camionnette </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3333cc"/>
                </a:solidFill>
                <a:latin typeface="Stylus BT"/>
                <a:ea typeface="Times New Roman"/>
              </a:rPr>
              <a:t>était une promenade sympa.</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3333cc"/>
                </a:solidFill>
                <a:latin typeface="Stylus BT"/>
                <a:ea typeface="Times New Roman"/>
              </a:rPr>
              <a:t>On s’en souvient encore...</a:t>
            </a:r>
            <a:endParaRPr b="0" lang="en-US" sz="4000" spc="-1" strike="noStrike">
              <a:solidFill>
                <a:srgbClr val="000000"/>
              </a:solidFill>
              <a:latin typeface="Times New Roman"/>
            </a:endParaRPr>
          </a:p>
        </p:txBody>
      </p:sp>
    </p:spTree>
  </p:cSld>
  <p:transition spd="med">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
          <p:cNvSpPr/>
          <p:nvPr/>
        </p:nvSpPr>
        <p:spPr>
          <a:xfrm>
            <a:off x="419040" y="990720"/>
            <a:ext cx="8305920" cy="192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3333cc"/>
                </a:solidFill>
                <a:latin typeface="Stylus BT"/>
                <a:ea typeface="Times New Roman"/>
              </a:rPr>
              <a:t>Nos berceaux étaient peints avec des couleurs brillantes à base de plomb !</a:t>
            </a:r>
            <a:endParaRPr b="0" lang="en-US" sz="4000" spc="-1" strike="noStrike">
              <a:solidFill>
                <a:srgbClr val="000000"/>
              </a:solidFill>
              <a:latin typeface="Times New Roman"/>
            </a:endParaRPr>
          </a:p>
        </p:txBody>
      </p:sp>
    </p:spTree>
  </p:cSld>
  <p:transition spd="med">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
          <p:cNvSpPr/>
          <p:nvPr/>
        </p:nvSpPr>
        <p:spPr>
          <a:xfrm>
            <a:off x="419040" y="380880"/>
            <a:ext cx="8305920" cy="253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3333cc"/>
                </a:solidFill>
                <a:latin typeface="Stylus BT"/>
                <a:ea typeface="Times New Roman"/>
              </a:rPr>
              <a:t>Il n’y avait pas de bouchons de sécurité sur les bouteilles de médicaments, ni sur les tiroirs ou les portes...</a:t>
            </a:r>
            <a:endParaRPr b="0" lang="en-US" sz="4000" spc="-1" strike="noStrike">
              <a:solidFill>
                <a:srgbClr val="000000"/>
              </a:solidFill>
              <a:latin typeface="Times New Roman"/>
            </a:endParaRPr>
          </a:p>
        </p:txBody>
      </p:sp>
    </p:spTree>
  </p:cSld>
  <p:transition spd="med">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
          <p:cNvSpPr/>
          <p:nvPr/>
        </p:nvSpPr>
        <p:spPr>
          <a:xfrm>
            <a:off x="419040" y="304920"/>
            <a:ext cx="8305920" cy="4969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3333cc"/>
                </a:solidFill>
                <a:latin typeface="Stylus BT"/>
                <a:ea typeface="Times New Roman"/>
              </a:rPr>
              <a:t>Quand nous partions à vélo, nous n’avions ni casque, ni protection pour les coudes ou les genoux. Et c’était génial, quand on transformait notre vélo en “moto” avec un simple gobelet en plastique sur la roue arrière.</a:t>
            </a:r>
            <a:endParaRPr b="0" lang="en-US" sz="4000" spc="-1" strike="noStrike">
              <a:solidFill>
                <a:srgbClr val="000000"/>
              </a:solidFill>
              <a:latin typeface="Times New Roman"/>
            </a:endParaRPr>
          </a:p>
        </p:txBody>
      </p:sp>
    </p:spTree>
  </p:cSld>
  <p:transition spd="med">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
          <p:cNvSpPr/>
          <p:nvPr/>
        </p:nvSpPr>
        <p:spPr>
          <a:xfrm>
            <a:off x="419040" y="380880"/>
            <a:ext cx="8305920" cy="314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3333cc"/>
                </a:solidFill>
                <a:latin typeface="Stylus BT"/>
                <a:ea typeface="Times New Roman"/>
              </a:rPr>
              <a:t>On buvait de l’eau du robinet du jardin ou là où on en trouvait, jusqu’à ce qu’on n’ait plus soif. On n’avait pas de bouteille d’eau minérale.</a:t>
            </a:r>
            <a:endParaRPr b="0" lang="en-US" sz="4000" spc="-1" strike="noStrike">
              <a:solidFill>
                <a:srgbClr val="000000"/>
              </a:solidFill>
              <a:latin typeface="Times New Roman"/>
            </a:endParaRPr>
          </a:p>
        </p:txBody>
      </p:sp>
    </p:spTree>
  </p:cSld>
  <p:transition spd="med">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
          <p:cNvSpPr/>
          <p:nvPr/>
        </p:nvSpPr>
        <p:spPr>
          <a:xfrm>
            <a:off x="419040" y="0"/>
            <a:ext cx="8305920" cy="448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3333cc"/>
                </a:solidFill>
                <a:latin typeface="Stylus BT"/>
                <a:ea typeface="Times New Roman"/>
              </a:rPr>
              <a:t>On mettait des heures à construire des voitures avec des caisses et des tuyaux et, ceux qui avaient la chance d’avoir un ami avec un vélo, en profitaient pour se faire remorquer et... en haut de la pente, ils se rappelaient qu’ils n’avaient pas de freins !!!</a:t>
            </a:r>
            <a:endParaRPr b="0" lang="en-US" sz="3600" spc="-1" strike="noStrike">
              <a:solidFill>
                <a:srgbClr val="000000"/>
              </a:solidFill>
              <a:latin typeface="Times New Roman"/>
            </a:endParaRPr>
          </a:p>
        </p:txBody>
      </p:sp>
    </p:spTree>
  </p:cSld>
  <p:transition spd="med">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
          <p:cNvSpPr/>
          <p:nvPr/>
        </p:nvSpPr>
        <p:spPr>
          <a:xfrm>
            <a:off x="419040" y="380880"/>
            <a:ext cx="8305920" cy="283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3333cc"/>
                </a:solidFill>
                <a:latin typeface="Stylus BT"/>
                <a:ea typeface="Times New Roman"/>
              </a:rPr>
              <a:t>Après quelques chocs, on a appris à résoudre le problème... On se laissait tomber contre un arbre ou par terre. Eh oui ! A l’époque, il n’y avait pas beaucoup de voitures !</a:t>
            </a:r>
            <a:endParaRPr b="0" lang="en-US" sz="3600" spc="-1" strike="noStrike">
              <a:solidFill>
                <a:srgbClr val="000000"/>
              </a:solidFill>
              <a:latin typeface="Times New Roman"/>
            </a:endParaRPr>
          </a:p>
        </p:txBody>
      </p:sp>
    </p:spTree>
  </p:cSld>
  <p:transition spd="med">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7-31T18:31:55Z</dcterms:created>
  <dc:creator>Oskar Franko</dc:creator>
  <dc:description>o_franco@yahoo.com</dc:description>
  <dc:language>en-US</dc:language>
  <cp:lastModifiedBy>ROUMIEU_M</cp:lastModifiedBy>
  <dcterms:modified xsi:type="dcterms:W3CDTF">2006-09-07T14:27:36Z</dcterms:modified>
  <cp:revision>29</cp:revision>
  <dc:subject>Nuestra Niñez</dc:subject>
  <dc:title>Sobrevivir</dc:title>
</cp:coreProperties>
</file>